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F104-D261-4290-BD48-A16143A8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D4ED-761F-480D-B463-AB691FB4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F507-AC14-49D8-AFC6-1077E2B4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2A8B-183D-4BB5-B260-23321C3D6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8C5D-8E3B-4635-9A73-CBD83C53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453B-F788-4EC0-8276-FA619993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A32E-F9FC-48E6-B76E-85E02D6B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C00F-711A-4636-8C49-B5731CC8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9EC7-7925-4507-943A-0FD3EB36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E199-D7AE-4F4A-90EF-3F810B73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293F-C660-4B53-8671-E7D94E6D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FB9D-E5AF-42FB-B274-D0423454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D060-08CD-44F4-A8BF-D31FC5ED1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escuela superior de guerra aerea que queda en fuerte tiuna, con el teniente torrelles alfon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8T18:13:05Z</dcterms:created>
  <dc:creator>JOSE</dc:creator>
  <dc:description/>
  <dc:language>en-US</dc:language>
  <cp:lastModifiedBy>JOSE</cp:lastModifiedBy>
  <dcterms:modified xsi:type="dcterms:W3CDTF">2007-07-08T18:36:00Z</dcterms:modified>
  <cp:revision>2</cp:revision>
  <dc:subject/>
  <dc:title>Diapositiva 1</dc:title>
</cp:coreProperties>
</file>